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AFC-061B-4DA3-8C7F-105EC4AB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25B-322E-4E87-A61D-BD826EE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8DB-DFD8-4EFC-B30C-F02F9332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B4F-04E8-49B8-829F-FEEBE64C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C75-E7E2-408A-A7F1-1D4B1F75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3FD-63A7-41A2-B7D5-DA15775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B2B-F14B-4D69-9E61-48682A7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029-F8AA-4C68-AD03-4F18B8F5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8E3-E07F-41DB-A438-8DB390E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369-3297-4F91-9B1C-B0EB27F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7BA-888F-460E-9E71-5C9ABD5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8B-BB16-49F7-BEC3-26577E7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B6E5-8829-415A-AF41-829253E1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3640" y="630864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cember 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04000" y="6103800"/>
            <a:ext cx="234000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a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ding F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o me in your own words, what you do to divide two fra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es this technique work for division of whole numb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. 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nd of the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you MUST be able to divide two simple f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you SHOULD be able to give the answer in the simplest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your COULD be able to correctly answer questions involving mixed numbers and dec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the following decimals to fra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answers in simplest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3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nswers must be given as fractions in the simplest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help each other out and save my voice! That doesn’t mean let the noise get out of h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still write a detention sl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divide some fraction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aluate 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: Find the reciprocal of the dividing f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ciprocal is the one after the ÷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the reciprocal of ¾ is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: Multiply instead of div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2205000"/>
            <a:ext cx="647640" cy="576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349360"/>
            <a:ext cx="2376360" cy="358920"/>
          </a:xfrm>
          <a:custGeom>
            <a:avLst/>
            <a:gdLst/>
            <a:ahLst/>
            <a:rect l="l" t="t" r="r" b="b"/>
            <a:pathLst>
              <a:path w="1951" h="226">
                <a:moveTo>
                  <a:pt x="1951" y="226"/>
                </a:moveTo>
                <a:cubicBezTo>
                  <a:pt x="1917" y="154"/>
                  <a:pt x="1883" y="83"/>
                  <a:pt x="1770" y="45"/>
                </a:cubicBezTo>
                <a:cubicBezTo>
                  <a:pt x="1657" y="7"/>
                  <a:pt x="1566" y="0"/>
                  <a:pt x="1271" y="0"/>
                </a:cubicBezTo>
                <a:cubicBezTo>
                  <a:pt x="976" y="0"/>
                  <a:pt x="310" y="121"/>
                  <a:pt x="0" y="4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227664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3080" y="226836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26370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227664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26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276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8x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9x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692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3280" y="2276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420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0560" y="2276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71320" y="378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1320" y="2133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other look…in 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aluate 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: Turn the second fraction upside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¾ becomes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: Change ÷ to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½ ÷ ¾ = ½ x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eas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you tr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/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4/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5/2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6/4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3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/9 ÷ 5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/44 ÷ 1/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te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try combi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0.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0.45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 5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0.125 ÷ 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1½ ÷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¾ ÷ 6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0:36:14Z</dcterms:created>
  <dc:creator>Bruno Reddy</dc:creator>
  <dc:description/>
  <dc:language>en-US</dc:language>
  <cp:lastModifiedBy>Bruno Reddy</cp:lastModifiedBy>
  <dcterms:modified xsi:type="dcterms:W3CDTF">2004-11-30T23:04:05Z</dcterms:modified>
  <cp:revision>6</cp:revision>
  <dc:subject/>
  <dc:title>Fractions</dc:title>
</cp:coreProperties>
</file>